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AF8-530D-4AD8-BE9D-653BF900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05E-131D-4DB0-A2A3-C9B9D5C7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8F6-9561-4E4E-8E6F-B23FAF12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7CE-2B7D-4049-AD32-F6A2BAD9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6CA-A490-4AD6-9A28-23F8068D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7CE-BA92-4943-A418-6F25CA75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89F-50C4-4671-BBBC-7E55ED94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641-F2AE-4864-958B-5325E4ED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000-349A-49F6-ABF5-C8847149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961-7D1B-476F-8400-3389976E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ACB-D78A-4363-94FD-CC6D6A82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BED-D805-498D-92CD-B0D9505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1393-F850-4070-A090-7F32285A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RELIGION IN ANCIEN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86040" y="22096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o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aughing_buddha_statue_Buddha_gift_m"/>
          <p:cNvPicPr/>
          <p:nvPr/>
        </p:nvPicPr>
        <p:blipFill>
          <a:blip r:embed="rId1"/>
          <a:stretch/>
        </p:blipFill>
        <p:spPr>
          <a:xfrm>
            <a:off x="380880" y="12952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5715000" y="4495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is guy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ople can be reborn to achieve 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hists also believe in            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arm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ood/bad actions                               people perform in their                                        lifetime affect 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KarmaCop-311x322"/>
          <p:cNvPicPr/>
          <p:nvPr/>
        </p:nvPicPr>
        <p:blipFill>
          <a:blip r:embed="rId1"/>
          <a:stretch/>
        </p:blipFill>
        <p:spPr>
          <a:xfrm>
            <a:off x="5943600" y="3714840"/>
            <a:ext cx="29624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HINA &amp; BUDD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ing the Sui and Tang dynasties Buddhism grew and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nese missionaries spread Buddhism to Japan, Korea and other Asian is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luenced art, literature an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ddhism was so important  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eriod from 400-845 is called the “Age of Buddh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alai-lama4"/>
          <p:cNvPicPr/>
          <p:nvPr/>
        </p:nvPicPr>
        <p:blipFill>
          <a:blip r:embed="rId1"/>
          <a:stretch/>
        </p:blipFill>
        <p:spPr>
          <a:xfrm>
            <a:off x="228600" y="304920"/>
            <a:ext cx="23241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UDDHISM IN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mperor  in the Tang dynasty tried to get rid of 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dhist books and temples were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, Buddhis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ved on in China and blended with other reli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3280716"/>
          <p:cNvPicPr/>
          <p:nvPr/>
        </p:nvPicPr>
        <p:blipFill>
          <a:blip r:embed="rId1"/>
          <a:stretch/>
        </p:blipFill>
        <p:spPr>
          <a:xfrm>
            <a:off x="7086600" y="4248000"/>
            <a:ext cx="1762200" cy="238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338037420_b740ce3bf4"/>
          <p:cNvPicPr/>
          <p:nvPr/>
        </p:nvPicPr>
        <p:blipFill>
          <a:blip r:embed="rId2"/>
          <a:stretch/>
        </p:blipFill>
        <p:spPr>
          <a:xfrm>
            <a:off x="2514600" y="4800600"/>
            <a:ext cx="2610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ONFUC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00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y a man named Confuc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352320"/>
            <a:ext cx="464832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 hear and I forget. I see and I remember. I do and I understan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Wheresoever you go, go with all your hear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ave no friends not equal to yoursel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onfucius2"/>
          <p:cNvPicPr/>
          <p:nvPr/>
        </p:nvPicPr>
        <p:blipFill>
          <a:blip r:embed="rId1"/>
          <a:stretch/>
        </p:blipFill>
        <p:spPr>
          <a:xfrm>
            <a:off x="5867280" y="3200400"/>
            <a:ext cx="257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WHY CONFUCIA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02680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olars and historians liked Confucianism because they thought it would improve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ucius’ ideas lost influ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became popular again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na during the So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this is called neo-Confucianis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neo=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-Confucianism blended ethics with spirit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onfucius_54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ELIEFS IN CONFUC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ucius believed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hics, or proper behavior, for individuals and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should live their lives according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wo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 for others (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e behavior (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yone has a role to play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young people should obey their elders and follow the rule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randparent01"/>
          <p:cNvPicPr/>
          <p:nvPr/>
        </p:nvPicPr>
        <p:blipFill>
          <a:blip r:embed="rId1"/>
          <a:stretch/>
        </p:blipFill>
        <p:spPr>
          <a:xfrm>
            <a:off x="304920" y="2286000"/>
            <a:ext cx="1904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ONFUCIANISM &amp;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d a religious and government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na created a bureaucracy of civil servants to work for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a civil servant you had to pass a test on Confucianis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other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passed you became a scholar-of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lar-officials were admired for their smarts and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page 178 in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est"/>
          <p:cNvPicPr/>
          <p:nvPr/>
        </p:nvPicPr>
        <p:blipFill>
          <a:blip r:embed="rId1"/>
          <a:stretch/>
        </p:blipFill>
        <p:spPr>
          <a:xfrm>
            <a:off x="6705720" y="5181480"/>
            <a:ext cx="13716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of the following was NOT a way that Confucianism influenced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s on family and famil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sion of manufacturing an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s on service to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educated government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re the two principles that Confucius believed people should fo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a scholar-off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beliefs and practices that guide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s a supreme being o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explains what happens to us when we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what way do Confucianism and Buddhism di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dhism stresses military charitable d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ucianism stresses ethical behavior and Buddhism stresses a spiritual outlook that promises escape from suff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dhism teaches people to value public service while Confucianism teaches that personal satisfaction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ucianism places high value on artistic talents and Buddhism teaches one to ignore 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Buddhism influence Chinese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people turn to Buddhism during the Period of Dis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YOU EVER SEEN THIS SYMBOL?  WHAT DO YOU THINK IT ME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Yin_and_yang"/>
          <p:cNvPicPr/>
          <p:nvPr/>
        </p:nvPicPr>
        <p:blipFill>
          <a:blip r:embed="rId1"/>
          <a:stretch/>
        </p:blipFill>
        <p:spPr>
          <a:xfrm>
            <a:off x="2209680" y="2227320"/>
            <a:ext cx="44960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DAOISM (or Taois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h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ed by Lao Tsu in 600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ve that the way to happiness is for people to learn to “go with the fl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ught everything had a lif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ing and Y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in= dark side- moon,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ng= light side- sun,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ng and Yang need to be 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u was against too many rules and laws- he thought people should make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Yin_and_yang"/>
          <p:cNvPicPr/>
          <p:nvPr/>
        </p:nvPicPr>
        <p:blipFill>
          <a:blip r:embed="rId1"/>
          <a:stretch/>
        </p:blipFill>
        <p:spPr>
          <a:xfrm>
            <a:off x="6858000" y="304920"/>
            <a:ext cx="19051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UDD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00 B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red in India - spread to China during the Han dynasty (200s A.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ddhism is based on the teaching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ddhartha Gautama Budd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as an Indian prince who gave up the royal life in search of a good and pur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ndia6"/>
          <p:cNvPicPr/>
          <p:nvPr/>
        </p:nvPicPr>
        <p:blipFill>
          <a:blip r:embed="rId1"/>
          <a:stretch/>
        </p:blipFill>
        <p:spPr>
          <a:xfrm>
            <a:off x="6477120" y="2133720"/>
            <a:ext cx="2265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HOW BUDDHISM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spread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WHY BUDDH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ople in China were attracted to Buddhism during the Period of Dis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remember what was happening during that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re troubled 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ddhism offered comfort by teaching that people could escape suffering and achiev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en%2520Buddhism"/>
          <p:cNvPicPr/>
          <p:nvPr/>
        </p:nvPicPr>
        <p:blipFill>
          <a:blip r:embed="rId1"/>
          <a:stretch/>
        </p:blipFill>
        <p:spPr>
          <a:xfrm>
            <a:off x="838080" y="380880"/>
            <a:ext cx="12384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UDDHIST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is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ship in te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using a statue of Buddha, many temples were built i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ctogonal pavilion of Yuantong Si, a 1200 year old Tang dynasty Buddhist temple. Kunming, Yunnan, China"/>
          <p:cNvPicPr/>
          <p:nvPr/>
        </p:nvPicPr>
        <p:blipFill>
          <a:blip r:embed="rId1"/>
          <a:stretch/>
        </p:blipFill>
        <p:spPr>
          <a:xfrm>
            <a:off x="1905120" y="2590920"/>
            <a:ext cx="5486400" cy="376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209680" y="6400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 dynast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s that suffering is unavoi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c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 suffering by reaching enlightenment- Nirv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llow the eight-fold path to reach 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Understanding, Right Thought, Right Speech, Right Action, Right Livelihood, Right Eff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Mindfulness and Right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rayer_flags_on_poon_hill"/>
          <p:cNvPicPr/>
          <p:nvPr/>
        </p:nvPicPr>
        <p:blipFill>
          <a:blip r:embed="rId1"/>
          <a:stretch/>
        </p:blipFill>
        <p:spPr>
          <a:xfrm>
            <a:off x="5867280" y="304920"/>
            <a:ext cx="30956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2:23:32Z</dcterms:created>
  <dc:creator>MS</dc:creator>
  <dc:description/>
  <dc:language>en-US</dc:language>
  <cp:lastModifiedBy>San Diego City Schools</cp:lastModifiedBy>
  <dcterms:modified xsi:type="dcterms:W3CDTF">2013-01-09T20:44:15Z</dcterms:modified>
  <cp:revision>34</cp:revision>
  <dc:subject/>
  <dc:title>RELIGION IN ANCIENT CHINA</dc:title>
</cp:coreProperties>
</file>